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9.wmf" ContentType="image/x-wmf"/>
  <Override PartName="/ppt/media/image14.png" ContentType="image/png"/>
  <Override PartName="/ppt/media/image22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1FD8D-042B-4E1F-8BE8-F4306E131DC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БизнесКонсалтин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ладчик:   Козлов Алексей Викторови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сть:   Эксперт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ю, внедрение и поддержку своих продукт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веряет крупным компаниям-партнерам, лидерам в области информационных технологий. Партнер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одят обучение сотрудников и сертификацию, предоставляя лучших специалистов для помощи своим клиент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тнер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ала компания РосБизнесКонсалтинг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осБизнесКонсалтинг» (РБК) - крупнейший в России холдинг, специализирующийся на создании различных информационных систем и программных комплексов; поставках компьютерного и телекоммуникационного оборудования;  автоматизации управления  предприятиями; а также распространению  финансовой, экономической и бизнес информ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я с 1992 г. наша компания оказывает комплексные услуги по системной интеграции, автоматизации, информационной безопасности, поставке и наладке компьютерного и телекоммуникационного оборудования, разработке и внедрению ERP и CRM систем, обучению персонала заказчика, техническому сопровождению. На сегодняшний день компания насчитывает более 500 человек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оссийского рынка первой стала верс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среднего бизнеса. (не более 200 рабочих мест, не более 250 млн. $ годовой оборо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несколько групп приложений ориентированных на различные группы пользов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нечных покуп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ustomer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создать интегрированный интернет-магазин ил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у без использования программного обеспечения третьих фир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артнеров и дилерскую се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hannel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вам и вашим партнерам использовать общую информацию о клиентах, потенциальных возможностях и т.д. на основ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отрудников вашей компа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Call Center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Sales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Service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я для работы с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ampaig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-mail Response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и, самыми мощными приложениями конечно являются традиционны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ложения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мотря на название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операторское приложение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ъединяет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оставляя универсальное приложение для сотрудников вашей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запросов на информацию или 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ая информ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тенциальными продажами, «труба»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яемый календарь и список зад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icrosoft Outlook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am Pi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рреспонденцией (рассылка информаци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имущ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лным циклом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предоставить лучший сервис и повышает лояльность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вает эффективность торговых представителей, телемаркетинга и серви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менеджерам продавать дополнительные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мимо функциональности доступной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следующие дополнительные возможност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лиентской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тенциальными продаж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ированное распределение потенциальных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ирование продаж, анализ «трубы»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ое составление предложений /оценка стоимости заказа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сложных составных товаров и сложное ценообраз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аз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ог продукции и сопутствующей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 активности конкур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представительских рас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хронизируемые органайзеры с календарем и списком зад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ы и граф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ориентировано на сотрудников сервисного отдела, отдела обслуживания клиентов (уже после заключения контракта или продажи), сотрудников горячей ли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входящих запросов, отслеживание всего цикла запроса на сервисное 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и автоматический учет жалоб на качество продук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о-телефонная интег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входящей почтой, интеграция с контакт-лист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леживание платеж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казки оператору для телефонного разговора и решения проблемы с первого обращ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 заказов на дополнительную продукц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ая информ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ая библиотека для решения пробл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ые страниц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ое направление рекла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ог проду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ы для поиска и сравнения това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заказ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интеграции с платежными систем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ная связ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ая интеграция с остальными решениям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диный центр обслуживания клиен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вам и вашим партнерам использовать общую информацию о клиентах, потенциальных возможностях и т.д. на основ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ы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ые страницы для партне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ированная оценка стоимости проекта (пакета услуг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ое управление потенциальными продаж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ой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библиотека литературы, маркетинговых материал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висно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дилерской сетью, ведение совместного бизне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hann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Market Edi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воляет вам и вашим партнерам быстро перенаправлять потенциальных клиентов, запросы на обслуживание, бизнес контакты, и т.д., если по каким то причинам они не могут быть обслужены самостоятельно. Это значительно упрощает управление дилерской сетью, повышает скорость реакции и эффективность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данные надежно защище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ывной рост Интернет поставил компании перед фактом, что существует новый канал продаж – Интернет. Новые технологии, связанные с Интернет так же предоставляют крайне эффективные способы персонального рекламного контакта и взаимодействия чере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 сожалению большинство компаний не обладают практикой и технологиями для перенесения их обычных рекламных кампаний в Интернет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ampaign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модуль позволяющий проводить применять прямой, дозируемы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ркетинг и персонифицированную рекламу на вашем интернет сайте.  Он так же позволяет компаниям собирать информацию о поведении пользователей на интернет сайте в реальном времени, благодаря анализу переходов. Это приносит не только дополнительный доход, но и большее удовлетворение клиентов – они больше не подвергаются массированным рекламным компаниям, а вместо этого получают индивидуальные предлож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ampain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воляет направлять персональные сообщения выбранному сегменту ваших потенциальных клиентов. Одновременно создаются специальные страницы н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сурсе с детальной информацией по рекламному предложению. Заинтересовавшиеся покупатели могут сразу же осуществить покупку или запросить дополнительную информацию. Сотрудники маркетинга могут анализировать рекламные компании по нескольким показателям, таким ка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еографический признак, популярность продуктов, время отклика, поведение покупателя в интернет-магази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Mail Respon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Market Edi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ет возможность эффективно управлять вашей перепиской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одержит автоответчик на письма, для того, чтобы быстрее сообщить клиенту о том, что его запрос обрабатывае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Mail Respon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кже является удобным интегрированным средством, которое решает постоянный вопрос – кто этот человек, который написал письмо. Больше нет необходимости в ручную искать информацию о нем и копировать ее и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ваш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твета на письма используются можно использовать шаблоны, которые значительно повысят скорость рабо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ответчик на пись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а шаблон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 с книгой контакт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при прочтении письма сразу создавать задания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идеология работы компании, при которой внимательное, персональное отношение к клиентам становится важнейшей задачей, позволяющей удержать клиентов и завоевать их лояльность. Такой подход позволяет компании повысить свою прибыльность, эффективно организовать процесс взаимодействия с клиентами и при этом снизить издерж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явился, при объединении в единое целое уже довольно давно используемых приложений и подходов для организации деятельности «внешних» отделов компании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F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ля отдела продаж и сервиса соответственно. Позже в общую информационную среду были добавлены приложения для маркетинг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особые возможности по автоматизации бизнес процессов компан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ооборот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flow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ое распределение зада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ация бизнес процессов позволяет организациям заложить в систему бизнес правила и с помощь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тролировать и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т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х исполнения. Система может контролировать наличие определенных шагов в процессе обслуживания клиентов, требовать утверждения документов вышестоящими менеджерами, генерировать события, задания, электронную почту, запросы и т.д. в соответствии с какой-то ситуацией или событ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стейшие функции контроля: система может брать на себя простейшие функции, как напоминание связаться с клиентом по прошествии 1 недели после запроса брошюр с информаци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может отправля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уководителю, если сотрудник не справляется с работой и не выдерживает сро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матическое распределение потенциальных клиентов среди менеджеров, согласно начальным признакам и заложенным правилам. Регулирование доступа к информации, в зависимости от ее важ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работает на нескольких платформ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 работу через баузе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хуровневая архитектура СУБД-Сервер приложений-Клиен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 работу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последующей синхронизаци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интегрированную графическую среду конфигурир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т объектную модель, ускоряющую и упрощающую конфигур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игурируем 1 раз – распространяем на все платформы. Единый вид и повед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дрение – один из ключевых моментов, позволивших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два года завоевать более 50% рынка компаний среднего разме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 специалист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ходили из следующих установок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м нужен готовый продукт, максимально удовлетворяющий их потребности, а не инструмент для самостоятельной разработ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продукт должен объединять все каналы, чтобы не приходилось лишний раз интегрировать решения различных производи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решение должно быстро внедряться и быть простым в обслужива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е должно поддерживать сложную функциональность, и быть очень гибким, потому что компании многогран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же предоставляет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упрощения внедрени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ная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де уже готова типовая конфигу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ое количество дополнительных шаблонов и объектов, не использующихся в типовой конфигурации, но готовых к быстрому включению в прило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бный графический конфигура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нескольких СУБ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дистрибуции конечных приложений: конфигурируем 1 раз, распространяем вез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ктике внедр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сть случаи завершения проекта в течение 2х недель, когда заказчика на 95% удовлетворяет стандартная функционально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ий срок внедр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 составляет 4-5недел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функциональности приложений возможно в процессе работы, силами консультантов или собственных специалис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Tool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нутренний конфигуратор выполнен в стил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ual Basi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 внутренний язы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V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едназначенный для выполнения сложных задач конфигурирования схож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B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личие от распространенного мн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является чрезмерно дорогим продуктом, доступным только крупным компания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имость рабочего мес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еблется в пределах 1000-1400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уги по внедрению зависят от объема работ. Однако я уже говорил –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се сделано для сокращения сроков и стоимости внедрения, а дальнейшую поддержку приложения, после обучения, можно доверить собственно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ужб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ирокие функциональные возможности, покрывающие нужды практически любой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ибкость, позволяющая конфигурировать стандартный продукт для лучшего удовлетворения специфических требова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компонентность, позволяющая покупать только необходимую функциональ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сть использовать разные платформы – от персонального компьютера, до карманного ПК или тонк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лиента. Уникальная технология синхронизации мобильных устройст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ная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озволяющая решить многие задачи без конфигурирования и сократить сроки внедрения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ие возможности интеграции. Пакетный и он-лайн режим обмена данными. Готовые процедуры для интеграции с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DEdward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ддержк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, CORBA, ACTIVEX, MQSER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егодняшнем уровне технологий и высокой конкуренции, качество товаров различных производителей отличается незначительно. Товар более не может быть инструментом завоевания лояльности клиента, не может заставить его постоянно выбирать один и тот же товар, услугу. Таким инструментом может стать внимательное отношение к клиент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нок массового продукта, массового обслуживания и супермаркетов вывел из бизнеса персональное обслуживание, присутствовавшее в маленьких фирмах, где хозяин знал всех своих клиентов. Только с приходом современных компьютерных технологий и мощных баз данных вновь появилась возможность выделить клиента из общей массы и понять его интерес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е компании уже достигли пределов минимизации издержек и качества за счет внедрения ERP-систем и, в поисках новых способов повышения конкурентоспособности, обратили внимание на C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утверждения, позволяющие понять бурный интерес 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вучат следующим образом (согласно исследовани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ая часть компаний из списка Fortune 500 теряет 50% своих клиентов каждые 5 лет. В результате компании тратят значительно больше средств на увеличение клиентской баз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привлечение нового клиента обходится компании от 7 до 10 раз дороже, чем удержание существующег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ение процента удержания клиентов на 5% увеличивает прибыль от 25 до 125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ло 50% существующих клиентов компании не прибыльны из-за неэффективного взаимодействия с ними. Слишком много затрачено средств на их привлечение, и при этом маржа на современном высококонкурентном рынке слишком мала, чтобы покрыть эти затраты с одной продаж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и гораздо больше внимания уделят попытке привлечь новых клиентов, нежели предложить дополнительные услуги своим старым, возможно лояльным клиент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стается сомнений, что клиентская база – важнейший актив компании, которым надо эффективно управлять. "Выращивание" клиента рассматривается как необходимое условие успешной работы как с текущим, так и с перспективным клиентом. Интересно отметить, что цена является далеко не решающим фактором в воспитании лояльности и при совершении повторных покуп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же выгоды для компании приносит лояльность клиентов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яльные клиенты менее восприимчивы к це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яльные клиенты более склонны покупать дополнительные продукты и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аются затраты на рекламу и привлечение. Увеличивается процент удержания и повторных обращений клиен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т доля лояльных клиентов, которые делятся хорошими впечатлениями с другими. Снижается негативное влияние недовольных клиентов, улучшается общий имидж компани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отметить, что проблемы, которые решаются при помощи систем CRM существуют только на тех рынках, где компании приходится работать с большим количеством клиентов, причем работа с клиентом носит долгосрочный характер и предполагает многократную продажу продуктов/услуг. Именно поэтому "целевыми" рынками для CRM стал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но, что реализация стратеги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отрывна от внедрения соответствующих технологий и программного обеспечения. Программное обеспечени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назначено для автоматизации «внешних» подразделений компании, которые контактируют с заказчиком. Помимо накопления и предоставления единой информации,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полняет ряд других важных функци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ирует работу различных департаментов связанных с обслуживанием клиента, а так же различных офисов и представительств в территориально распределенной орган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ирует информационный обмен по трем каналам – личное общение, телефон и Интер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ет способ автоматизации деятельности подразделений сервиса, продаж и маркетинг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ми словами, продукты CRM позволяют автоматизировать работу фронт офиса (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онт офис – это отделы компании, непосредственно работающие с клиентом: продажи, маркетинг и серви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Именно поэтому продукты CRM всех фирм содержат соответствующие модули: продажи, маркетинг и серви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ериканская компа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а основана в 1993г. и начала свою работу на рынке фронт-офисных приложений. На сегодняшний день в компании работает боле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0 сотрудников а оборот компании составляет более 1.6 млрд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год. Компания имеет 120 офисов в 28 странах ми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ми приложениями, которые выпустила компания, стали системы автоматизации продаж и сервиса. Объединение этих двух систем привело к созданию в 1995 году перв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1997 году 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а добавлена функциональность для маркетинга и использования Интернет. Это привело к появлению современн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дук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лагает три версии своего продукта – для персонального использования, для средних рынков с количеством рабочих мест до 200, и уровня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секторе, являющемся наиболее перспективным, компания завоевала 53% рын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6CA87-D928-4E65-A7A4-0BF1F4988E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4A125-47B5-47BE-8FE0-AE4E2BAD78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2F827-D1AB-4426-BD86-64D74CC0CF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6BF12-8590-4148-B4F5-3E1634DBD8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1E7C3-F94E-4679-AD97-AC6E45BBB3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59E19-C6B3-4565-AD63-DEC6466905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D088A-701A-4D42-BCFC-AE9D71CEA4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0D880-8DF7-42B7-A0FD-219C120689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E6F1B-B12F-4308-A8AF-762BE170E5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60B3F-02A6-4EFD-9243-B4122971A3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EB110-A12B-4700-9456-E8E001A2C8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BA50C-2BD9-4910-9600-B2909127B9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381880" y="592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508A5-F327-409F-99E8-09A2292E8F2E}" type="slidenum">
              <a:rPr b="1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/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3.xml"/><Relationship Id="rId1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1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 R M 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3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l Business Solution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мир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ажа и внедрение осуществляется партнерам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ртнер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еют обученных, сертифицированных специалис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компании-лидеры в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Т-индуст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Росс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тнер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осси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ани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сБизнесКонсалт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БК – крупнейший холдинг в России, работающий в сфере И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информационных сис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ая безопас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ная интегр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idMarket Ed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ebel eBusines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несколько групп приложе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Для клиентов и конечных покуп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Для партнеров и дилерской с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Для сотрудников Вашей ком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Call Cente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Sale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Для работ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ampaign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i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Call Center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ниверсальное рабочее ме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ация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а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я рабочего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респонде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грация 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 Outloo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авление полным циклом прода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оставление лучшего сервиса и повышение лояльности кли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величение эффективности сотрудн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дажа дополнительных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JG%20Pipeline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3867120" cy="290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Sales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рганизация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икл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гноз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ракты и предл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ка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талог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ализ конкур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дставительские рас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ганизация рабочего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четы и граф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величение прибыли за счет лучшего управления продаж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едоставление информации для принятия реш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JG%20Acct%20TAS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368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Service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ация запр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кл обслужи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реклам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ическая библиот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 проблем по телеф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шение большинства вопросов при первом звон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увеличить количество предоставляемых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быстро выявлять дефек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" name="JG%20SR%20Aging" descr=""/>
          <p:cNvPicPr/>
          <p:nvPr/>
        </p:nvPicPr>
        <p:blipFill>
          <a:blip r:embed="rId3"/>
          <a:stretch/>
        </p:blipFill>
        <p:spPr>
          <a:xfrm>
            <a:off x="4648320" y="1376280"/>
            <a:ext cx="383040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ustomer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ктронная коммер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ст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талог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иск и сравнение това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ормление заказ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тная свя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ая 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тежные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полнительный канал продаж и информирования кли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обслуживан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x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ная интеграция с другими приложениям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" descr=""/>
          <p:cNvPicPr/>
          <p:nvPr/>
        </p:nvPicPr>
        <p:blipFill>
          <a:blip r:embed="rId3"/>
          <a:srcRect l="1798" t="10728" r="19765" b="8022"/>
          <a:stretch/>
        </p:blipFill>
        <p:spPr>
          <a:xfrm>
            <a:off x="4648320" y="1390680"/>
            <a:ext cx="3824280" cy="3095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hannel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грация с партне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ст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роль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ределение кли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блиотека док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ощает управление сетью партнеров или диле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ает оперативность работы се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обслуживан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x7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решение проблемы часовых поя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ведения совместного бизне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echannel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0988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ampaig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кетинг в Интер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я директ-маркетин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а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ая Б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интересов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ьзова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зволяет использовать новые технологии в маркетинг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сонифицирует воздейст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ет возможность дополнительного анализа интересов и сегментации аудитории для будущих камп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0048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16360" cy="2849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Mail Response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правлени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ail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пи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троенны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матические уведом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блоны отв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нига контакто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нерация зад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еративный ответ клиен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грация с контакт листом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2" name="JG%20eMail" descr=""/>
          <p:cNvPicPr/>
          <p:nvPr/>
        </p:nvPicPr>
        <p:blipFill>
          <a:blip r:embed="rId3"/>
          <a:stretch/>
        </p:blipFill>
        <p:spPr>
          <a:xfrm>
            <a:off x="4648320" y="1357200"/>
            <a:ext cx="385272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нят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er Relationship Manag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ие взаимоотношениями с клиен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ология направленная на завоевание лояльности клиентов путем персонального подхода и качественного обслуж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ое понятие, объединившее старые, проверенные методы и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втоматизация бизнес-процесс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ументооборот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flow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ределение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троль прогр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матизированный контроль исполнения бизнес-прав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матизация рутинных опер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грузка управляющего персон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859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4804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хитектур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лай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ла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хрон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и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ная совместимость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латформ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84840" y="19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4" name=""/>
          <p:cNvGrpSpPr/>
          <p:nvPr/>
        </p:nvGrpSpPr>
        <p:grpSpPr>
          <a:xfrm>
            <a:off x="6249960" y="2671920"/>
            <a:ext cx="1865520" cy="631800"/>
            <a:chOff x="6249960" y="2671920"/>
            <a:chExt cx="1865520" cy="631800"/>
          </a:xfrm>
        </p:grpSpPr>
        <p:sp>
          <p:nvSpPr>
            <p:cNvPr id="145" name=""/>
            <p:cNvSpPr/>
            <p:nvPr/>
          </p:nvSpPr>
          <p:spPr>
            <a:xfrm>
              <a:off x="6249960" y="2671920"/>
              <a:ext cx="1865520" cy="63180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7360" y="2896920"/>
              <a:ext cx="1019160" cy="34524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051680" y="2880720"/>
              <a:ext cx="1019160" cy="34488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42480" y="3114000"/>
              <a:ext cx="362880" cy="1018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21600" bIns="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60440" y="3149640"/>
              <a:ext cx="362880" cy="1018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21600" bIns="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197840" y="3164400"/>
              <a:ext cx="575640" cy="1166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040" bIns="32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440840" y="3089880"/>
              <a:ext cx="576000" cy="1166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040" bIns="32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91600" y="3125880"/>
              <a:ext cx="272160" cy="763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40" bIns="3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91160" y="3017520"/>
              <a:ext cx="28836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17600" y="3029400"/>
              <a:ext cx="55152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707960" y="3000240"/>
              <a:ext cx="288360" cy="12816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960" bIns="399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24760" y="3030120"/>
              <a:ext cx="55152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10440" y="2920680"/>
              <a:ext cx="432720" cy="824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7920" bIns="79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41560" y="2761200"/>
              <a:ext cx="208080" cy="925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30560" y="2876400"/>
              <a:ext cx="383040" cy="720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60" bIns="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87360" y="2850840"/>
              <a:ext cx="208080" cy="925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93160" y="2791080"/>
              <a:ext cx="408600" cy="874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1520" bIns="115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6227640" y="2587680"/>
            <a:ext cx="1905120" cy="646200"/>
          </a:xfrm>
          <a:custGeom>
            <a:avLst/>
            <a:gdLst/>
            <a:ahLst/>
            <a:rect l="l" t="t" r="r" b="b"/>
            <a:pathLst>
              <a:path w="6732" h="4355">
                <a:moveTo>
                  <a:pt x="666" y="1132"/>
                </a:moveTo>
                <a:lnTo>
                  <a:pt x="438" y="1219"/>
                </a:lnTo>
                <a:lnTo>
                  <a:pt x="253" y="1365"/>
                </a:lnTo>
                <a:lnTo>
                  <a:pt x="117" y="1553"/>
                </a:lnTo>
                <a:lnTo>
                  <a:pt x="30" y="1771"/>
                </a:lnTo>
                <a:lnTo>
                  <a:pt x="0" y="2003"/>
                </a:lnTo>
                <a:lnTo>
                  <a:pt x="0" y="2060"/>
                </a:lnTo>
                <a:lnTo>
                  <a:pt x="3" y="2120"/>
                </a:lnTo>
                <a:lnTo>
                  <a:pt x="25" y="2240"/>
                </a:lnTo>
                <a:lnTo>
                  <a:pt x="111" y="2465"/>
                </a:lnTo>
                <a:lnTo>
                  <a:pt x="264" y="2669"/>
                </a:lnTo>
                <a:lnTo>
                  <a:pt x="187" y="2977"/>
                </a:lnTo>
                <a:lnTo>
                  <a:pt x="184" y="3049"/>
                </a:lnTo>
                <a:lnTo>
                  <a:pt x="188" y="3123"/>
                </a:lnTo>
                <a:lnTo>
                  <a:pt x="216" y="3264"/>
                </a:lnTo>
                <a:lnTo>
                  <a:pt x="334" y="3512"/>
                </a:lnTo>
                <a:lnTo>
                  <a:pt x="522" y="3710"/>
                </a:lnTo>
                <a:lnTo>
                  <a:pt x="756" y="3837"/>
                </a:lnTo>
                <a:lnTo>
                  <a:pt x="884" y="3870"/>
                </a:lnTo>
                <a:lnTo>
                  <a:pt x="951" y="3879"/>
                </a:lnTo>
                <a:lnTo>
                  <a:pt x="1019" y="3882"/>
                </a:lnTo>
                <a:lnTo>
                  <a:pt x="1289" y="3826"/>
                </a:lnTo>
                <a:lnTo>
                  <a:pt x="1548" y="3652"/>
                </a:lnTo>
                <a:lnTo>
                  <a:pt x="1729" y="3803"/>
                </a:lnTo>
                <a:lnTo>
                  <a:pt x="1927" y="3924"/>
                </a:lnTo>
                <a:lnTo>
                  <a:pt x="2137" y="4011"/>
                </a:lnTo>
                <a:lnTo>
                  <a:pt x="2359" y="4065"/>
                </a:lnTo>
                <a:lnTo>
                  <a:pt x="2582" y="4082"/>
                </a:lnTo>
                <a:lnTo>
                  <a:pt x="2694" y="4080"/>
                </a:lnTo>
                <a:lnTo>
                  <a:pt x="2810" y="4067"/>
                </a:lnTo>
                <a:lnTo>
                  <a:pt x="3033" y="4015"/>
                </a:lnTo>
                <a:lnTo>
                  <a:pt x="3252" y="3923"/>
                </a:lnTo>
                <a:lnTo>
                  <a:pt x="3532" y="4126"/>
                </a:lnTo>
                <a:lnTo>
                  <a:pt x="3837" y="4265"/>
                </a:lnTo>
                <a:lnTo>
                  <a:pt x="4157" y="4339"/>
                </a:lnTo>
                <a:lnTo>
                  <a:pt x="4320" y="4354"/>
                </a:lnTo>
                <a:lnTo>
                  <a:pt x="4403" y="4355"/>
                </a:lnTo>
                <a:lnTo>
                  <a:pt x="4485" y="4351"/>
                </a:lnTo>
                <a:lnTo>
                  <a:pt x="4809" y="4300"/>
                </a:lnTo>
                <a:lnTo>
                  <a:pt x="5121" y="4186"/>
                </a:lnTo>
                <a:lnTo>
                  <a:pt x="5412" y="4010"/>
                </a:lnTo>
                <a:lnTo>
                  <a:pt x="5673" y="3774"/>
                </a:lnTo>
                <a:lnTo>
                  <a:pt x="5842" y="3794"/>
                </a:lnTo>
                <a:lnTo>
                  <a:pt x="5922" y="3794"/>
                </a:lnTo>
                <a:lnTo>
                  <a:pt x="6002" y="3784"/>
                </a:lnTo>
                <a:lnTo>
                  <a:pt x="6283" y="3681"/>
                </a:lnTo>
                <a:lnTo>
                  <a:pt x="6505" y="3489"/>
                </a:lnTo>
                <a:lnTo>
                  <a:pt x="6658" y="3232"/>
                </a:lnTo>
                <a:lnTo>
                  <a:pt x="6728" y="2942"/>
                </a:lnTo>
                <a:lnTo>
                  <a:pt x="6732" y="2867"/>
                </a:lnTo>
                <a:lnTo>
                  <a:pt x="6732" y="2791"/>
                </a:lnTo>
                <a:lnTo>
                  <a:pt x="6709" y="2639"/>
                </a:lnTo>
                <a:lnTo>
                  <a:pt x="6589" y="2352"/>
                </a:lnTo>
                <a:lnTo>
                  <a:pt x="6486" y="2222"/>
                </a:lnTo>
                <a:lnTo>
                  <a:pt x="6353" y="2104"/>
                </a:lnTo>
                <a:lnTo>
                  <a:pt x="6490" y="1937"/>
                </a:lnTo>
                <a:lnTo>
                  <a:pt x="6552" y="1749"/>
                </a:lnTo>
                <a:lnTo>
                  <a:pt x="6557" y="1655"/>
                </a:lnTo>
                <a:lnTo>
                  <a:pt x="6546" y="1559"/>
                </a:lnTo>
                <a:lnTo>
                  <a:pt x="6480" y="1382"/>
                </a:lnTo>
                <a:lnTo>
                  <a:pt x="6366" y="1237"/>
                </a:lnTo>
                <a:lnTo>
                  <a:pt x="6210" y="1136"/>
                </a:lnTo>
                <a:lnTo>
                  <a:pt x="6024" y="1100"/>
                </a:lnTo>
                <a:lnTo>
                  <a:pt x="5975" y="1101"/>
                </a:lnTo>
                <a:lnTo>
                  <a:pt x="5922" y="1108"/>
                </a:lnTo>
                <a:lnTo>
                  <a:pt x="5814" y="1141"/>
                </a:lnTo>
                <a:lnTo>
                  <a:pt x="5664" y="970"/>
                </a:lnTo>
                <a:lnTo>
                  <a:pt x="5491" y="829"/>
                </a:lnTo>
                <a:lnTo>
                  <a:pt x="5303" y="721"/>
                </a:lnTo>
                <a:lnTo>
                  <a:pt x="5099" y="645"/>
                </a:lnTo>
                <a:lnTo>
                  <a:pt x="4888" y="605"/>
                </a:lnTo>
                <a:lnTo>
                  <a:pt x="4780" y="598"/>
                </a:lnTo>
                <a:lnTo>
                  <a:pt x="4728" y="596"/>
                </a:lnTo>
                <a:lnTo>
                  <a:pt x="4672" y="598"/>
                </a:lnTo>
                <a:lnTo>
                  <a:pt x="4455" y="627"/>
                </a:lnTo>
                <a:lnTo>
                  <a:pt x="4239" y="697"/>
                </a:lnTo>
                <a:lnTo>
                  <a:pt x="4045" y="393"/>
                </a:lnTo>
                <a:lnTo>
                  <a:pt x="3789" y="175"/>
                </a:lnTo>
                <a:lnTo>
                  <a:pt x="3495" y="44"/>
                </a:lnTo>
                <a:lnTo>
                  <a:pt x="3177" y="0"/>
                </a:lnTo>
                <a:lnTo>
                  <a:pt x="3099" y="1"/>
                </a:lnTo>
                <a:lnTo>
                  <a:pt x="3020" y="8"/>
                </a:lnTo>
                <a:lnTo>
                  <a:pt x="2863" y="42"/>
                </a:lnTo>
                <a:lnTo>
                  <a:pt x="2567" y="173"/>
                </a:lnTo>
                <a:lnTo>
                  <a:pt x="2311" y="389"/>
                </a:lnTo>
                <a:lnTo>
                  <a:pt x="2113" y="697"/>
                </a:lnTo>
                <a:lnTo>
                  <a:pt x="1932" y="512"/>
                </a:lnTo>
                <a:lnTo>
                  <a:pt x="1717" y="403"/>
                </a:lnTo>
                <a:lnTo>
                  <a:pt x="1488" y="368"/>
                </a:lnTo>
                <a:lnTo>
                  <a:pt x="1432" y="370"/>
                </a:lnTo>
                <a:lnTo>
                  <a:pt x="1374" y="377"/>
                </a:lnTo>
                <a:lnTo>
                  <a:pt x="1259" y="403"/>
                </a:lnTo>
                <a:lnTo>
                  <a:pt x="1048" y="500"/>
                </a:lnTo>
                <a:lnTo>
                  <a:pt x="869" y="659"/>
                </a:lnTo>
                <a:lnTo>
                  <a:pt x="741" y="870"/>
                </a:lnTo>
                <a:lnTo>
                  <a:pt x="677" y="1132"/>
                </a:lnTo>
                <a:lnTo>
                  <a:pt x="666" y="1132"/>
                </a:lnTo>
                <a:close/>
              </a:path>
            </a:pathLst>
          </a:custGeom>
          <a:gradFill rotWithShape="0">
            <a:gsLst>
              <a:gs pos="0">
                <a:srgbClr val="f0f0f0"/>
              </a:gs>
              <a:gs pos="100000">
                <a:srgbClr val="b2b2b2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86200" y="5715000"/>
            <a:ext cx="1009800" cy="763560"/>
          </a:xfrm>
          <a:prstGeom prst="can">
            <a:avLst>
              <a:gd name="adj" fmla="val 25000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Б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server" descr=""/>
          <p:cNvPicPr/>
          <p:nvPr/>
        </p:nvPicPr>
        <p:blipFill>
          <a:blip r:embed="rId3"/>
          <a:stretch/>
        </p:blipFill>
        <p:spPr>
          <a:xfrm>
            <a:off x="5506920" y="4076640"/>
            <a:ext cx="1675080" cy="1082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H="1">
            <a:off x="5029200" y="5181480"/>
            <a:ext cx="1295280" cy="6858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23040" y="4189680"/>
            <a:ext cx="14173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Менеджер объектов </a:t>
            </a:r>
            <a:r>
              <a:rPr b="1" lang="en-US" sz="1600" spc="-1" strike="noStrike">
                <a:solidFill>
                  <a:srgbClr val="dddddd"/>
                </a:solidFill>
                <a:latin typeface="Arial"/>
              </a:rPr>
              <a:t>Sieb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4213080"/>
            <a:ext cx="1027080" cy="1013040"/>
          </a:xfrm>
          <a:prstGeom prst="wedgeRectCallout">
            <a:avLst>
              <a:gd name="adj1" fmla="val -5949"/>
              <a:gd name="adj2" fmla="val 91064"/>
            </a:avLst>
          </a:prstGeom>
          <a:solidFill>
            <a:srgbClr val="b2b2b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фигу-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02280" y="4687920"/>
            <a:ext cx="318960" cy="144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2971800" y="4723920"/>
            <a:ext cx="914400" cy="6858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481880" y="3651120"/>
            <a:ext cx="1123920" cy="284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421400" y="3635280"/>
            <a:ext cx="1305360" cy="274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Siebel Web 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481880" y="3498840"/>
            <a:ext cx="1123920" cy="193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09320" y="3481560"/>
            <a:ext cx="874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Web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837480" y="3809520"/>
            <a:ext cx="630000" cy="25884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0" y="2286000"/>
            <a:ext cx="252360" cy="2682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913440" y="3306600"/>
            <a:ext cx="478080" cy="3510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438280" y="5029200"/>
            <a:ext cx="1218960" cy="979560"/>
            <a:chOff x="2438280" y="5029200"/>
            <a:chExt cx="1218960" cy="979560"/>
          </a:xfrm>
        </p:grpSpPr>
        <p:pic>
          <p:nvPicPr>
            <p:cNvPr id="178" name="" descr=""/>
            <p:cNvPicPr/>
            <p:nvPr/>
          </p:nvPicPr>
          <p:blipFill>
            <a:blip r:embed="rId4"/>
            <a:stretch/>
          </p:blipFill>
          <p:spPr>
            <a:xfrm>
              <a:off x="2438280" y="5029200"/>
              <a:ext cx="1218960" cy="97956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179" name=""/>
            <p:cNvSpPr/>
            <p:nvPr/>
          </p:nvSpPr>
          <p:spPr>
            <a:xfrm>
              <a:off x="2910600" y="5516640"/>
              <a:ext cx="6346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</a:rPr>
                <a:t>Sieb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</a:rPr>
                <a:t>Too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7445520" y="4724280"/>
            <a:ext cx="1153800" cy="749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02960" y="2806560"/>
            <a:ext cx="1657800" cy="28440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ернет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ра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0" y="3276720"/>
            <a:ext cx="1440" cy="77472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7619760" y="2286000"/>
            <a:ext cx="268200" cy="25236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22600" y="2587680"/>
            <a:ext cx="538200" cy="360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Б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2362320"/>
            <a:ext cx="436680" cy="17064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2133720"/>
            <a:ext cx="55440" cy="38088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809880" y="990720"/>
            <a:ext cx="1295280" cy="1082160"/>
            <a:chOff x="3809880" y="990720"/>
            <a:chExt cx="1295280" cy="1082160"/>
          </a:xfrm>
        </p:grpSpPr>
        <p:sp>
          <p:nvSpPr>
            <p:cNvPr id="188" name=""/>
            <p:cNvSpPr/>
            <p:nvPr/>
          </p:nvSpPr>
          <p:spPr>
            <a:xfrm>
              <a:off x="3809880" y="990720"/>
              <a:ext cx="1295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ортатив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9" name="lap3" descr=""/>
            <p:cNvPicPr/>
            <p:nvPr/>
          </p:nvPicPr>
          <p:blipFill>
            <a:blip r:embed="rId5"/>
            <a:stretch/>
          </p:blipFill>
          <p:spPr>
            <a:xfrm>
              <a:off x="4057560" y="1315800"/>
              <a:ext cx="961920" cy="75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6"/>
            <a:stretch/>
          </p:blipFill>
          <p:spPr>
            <a:xfrm>
              <a:off x="4325760" y="1434960"/>
              <a:ext cx="430200" cy="32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1" name=""/>
          <p:cNvGrpSpPr/>
          <p:nvPr/>
        </p:nvGrpSpPr>
        <p:grpSpPr>
          <a:xfrm>
            <a:off x="5137200" y="990720"/>
            <a:ext cx="1039680" cy="1288800"/>
            <a:chOff x="5137200" y="990720"/>
            <a:chExt cx="1039680" cy="1288800"/>
          </a:xfrm>
        </p:grpSpPr>
        <p:pic>
          <p:nvPicPr>
            <p:cNvPr id="192" name="lap" descr=""/>
            <p:cNvPicPr/>
            <p:nvPr/>
          </p:nvPicPr>
          <p:blipFill>
            <a:blip r:embed="rId7"/>
            <a:stretch/>
          </p:blipFill>
          <p:spPr>
            <a:xfrm>
              <a:off x="5137200" y="1260360"/>
              <a:ext cx="1039680" cy="10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8"/>
            <a:stretch/>
          </p:blipFill>
          <p:spPr>
            <a:xfrm>
              <a:off x="5356080" y="1422360"/>
              <a:ext cx="636480" cy="47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5207040" y="990720"/>
              <a:ext cx="8380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ет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6251400" y="990720"/>
            <a:ext cx="1028880" cy="1277640"/>
            <a:chOff x="6251400" y="990720"/>
            <a:chExt cx="1028880" cy="1277640"/>
          </a:xfrm>
        </p:grpSpPr>
        <p:pic>
          <p:nvPicPr>
            <p:cNvPr id="196" name="lap" descr=""/>
            <p:cNvPicPr/>
            <p:nvPr/>
          </p:nvPicPr>
          <p:blipFill>
            <a:blip r:embed="rId9"/>
            <a:stretch/>
          </p:blipFill>
          <p:spPr>
            <a:xfrm>
              <a:off x="6251400" y="1258920"/>
              <a:ext cx="102888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10"/>
            <a:stretch/>
          </p:blipFill>
          <p:spPr>
            <a:xfrm>
              <a:off x="6443640" y="1434960"/>
              <a:ext cx="70488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6257880" y="990720"/>
              <a:ext cx="958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tiv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7346880" y="990720"/>
            <a:ext cx="1028880" cy="1277640"/>
            <a:chOff x="7346880" y="990720"/>
            <a:chExt cx="1028880" cy="1277640"/>
          </a:xfrm>
        </p:grpSpPr>
        <p:pic>
          <p:nvPicPr>
            <p:cNvPr id="200" name="lap" descr=""/>
            <p:cNvPicPr/>
            <p:nvPr/>
          </p:nvPicPr>
          <p:blipFill>
            <a:blip r:embed="rId11"/>
            <a:stretch/>
          </p:blipFill>
          <p:spPr>
            <a:xfrm>
              <a:off x="7346880" y="1258920"/>
              <a:ext cx="102888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12"/>
            <a:stretch/>
          </p:blipFill>
          <p:spPr>
            <a:xfrm>
              <a:off x="7531200" y="1442880"/>
              <a:ext cx="70488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7467480" y="990720"/>
              <a:ext cx="762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TM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4800600" y="3048120"/>
            <a:ext cx="903240" cy="10206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238880" y="4648320"/>
            <a:ext cx="533520" cy="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848720" y="4114800"/>
            <a:ext cx="838080" cy="9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913160" y="4268160"/>
            <a:ext cx="72144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Бэк- </a:t>
            </a:r>
            <a:br>
              <a:rPr sz="1600"/>
            </a:b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офи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едрен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ний срок внедрен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товая типовая конфигурац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товые дополнительные шаблоны и объект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рафический конфигуратор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ддержка распространенных СУБД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истрибуция конечных приложени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имост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чее место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$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1000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$1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откий срок внедрения, сокращающий затр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ние существующего ПО и невысокие аппаратные треб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имуществ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вый на рынк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Функциональн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Гибкость и расширяем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Типовая конфигурац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Компонентная структур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Интеграц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ценка результат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2" name=""/>
          <p:cNvGrpSpPr/>
          <p:nvPr/>
        </p:nvGrpSpPr>
        <p:grpSpPr>
          <a:xfrm>
            <a:off x="762120" y="1295280"/>
            <a:ext cx="7543800" cy="4556160"/>
            <a:chOff x="762120" y="1295280"/>
            <a:chExt cx="7543800" cy="4556160"/>
          </a:xfrm>
        </p:grpSpPr>
        <p:sp>
          <p:nvSpPr>
            <p:cNvPr id="223" name=""/>
            <p:cNvSpPr/>
            <p:nvPr/>
          </p:nvSpPr>
          <p:spPr>
            <a:xfrm>
              <a:off x="762120" y="1295280"/>
              <a:ext cx="7543800" cy="455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4" name="WSJ%20Prognostics1" descr=""/>
            <p:cNvPicPr/>
            <p:nvPr/>
          </p:nvPicPr>
          <p:blipFill>
            <a:blip r:embed="rId3"/>
            <a:srcRect l="6864" t="3231" r="7844" b="0"/>
            <a:stretch/>
          </p:blipFill>
          <p:spPr>
            <a:xfrm>
              <a:off x="1440720" y="1597680"/>
              <a:ext cx="5943960" cy="3921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25" name=""/>
          <p:cNvGraphicFramePr/>
          <p:nvPr/>
        </p:nvGraphicFramePr>
        <p:xfrm>
          <a:off x="3886200" y="2819520"/>
          <a:ext cx="1219320" cy="83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86200" y="2819520"/>
                    <a:ext cx="12193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5791320" y="2709720"/>
          <a:ext cx="1295280" cy="1086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91320" y="2709720"/>
                    <a:ext cx="129528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1981080" y="2743200"/>
          <a:ext cx="1162080" cy="961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2743200"/>
                    <a:ext cx="116208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2209680" y="5272200"/>
          <a:ext cx="4381560" cy="199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09680" y="5272200"/>
                    <a:ext cx="4381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партамент Интернет Решени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сБизнесКонсалт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сква, Профсоюзная ул., 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095) 363-1111, (095) 363-11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solutions.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solutions@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ексей Коз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перт п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kozlov@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 www.siebe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осылки возникнове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йства товара или услуги больше не могут самостоятельно завоевывать клиента. Конкуренция высока, а качество товаров примерно одинак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ространение  мощных компьютерных технологий позволило вновь вернуться к персонификации при массовом обслужив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ие компании уже внедрил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истем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конкурентная борьба заставляет и дальше искать пути повышения прибы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ифры и факт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ольшая часть компаний из списк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tune 500 </a:t>
            </a:r>
            <a:br>
              <a:rPr sz="2200"/>
            </a:b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теряет 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50%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иентов каждые 5 ле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влечение нового клиента в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5-7 раз дорож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чем удержание существующег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ение удержания клиентов на 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ивает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прибыль от 25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 до 125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коло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50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иентов компании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убыточн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з-за неэффективного взаимодействия с ни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 данным компании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год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стет доля лояльных клиентов, улучшается имидж компани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яльные клиенты менее восприимчивы к це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яльные клиенты более склонны покупать дополнительные продукты и услуг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нижаются затраты на рекламу и привлечение, увеличивается процент удержания клиен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м компаниям необходим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мпания имеет много кли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ота с клиентом носит долгосрочный харак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ществует высокая конкурен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219320" y="3048120"/>
            <a:ext cx="38098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ан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ахов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орговл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лекоммуник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6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3048120"/>
            <a:ext cx="3352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слу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дици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изводств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можност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зац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олог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невозмож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ез специализированного программного обеспе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ное обеспеч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копление и предоставление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ординация продаж, сервиса и маркетин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динение каналов – персональные контакты, телефон,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ация рутин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800000"/>
                </a:solidFill>
                <a:latin typeface="Arial"/>
              </a:rPr>
              <a:t>CRM </a:t>
            </a:r>
            <a:r>
              <a:rPr b="1" lang="ru-RU" sz="2100" spc="-1" strike="noStrike">
                <a:solidFill>
                  <a:srgbClr val="800000"/>
                </a:solidFill>
                <a:latin typeface="Arial"/>
              </a:rPr>
              <a:t>решения автоматизируют работу «фронт-офис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а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поставщик решений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ания создана в 1993 году, изначально занимается автоматизацией «фронт-офис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трудников,  оборо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лр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0 офисов в 28 странах м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лагает 3 верс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сональ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средних комп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вня предпри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дер рынк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00040" y="380880"/>
          <a:ext cx="7924680" cy="566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380880"/>
                    <a:ext cx="7924680" cy="566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406120" y="4648320"/>
            <a:ext cx="352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редние компании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нсталляция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о 2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бочих ме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9T07:15:07Z</dcterms:created>
  <dc:creator>Shadow</dc:creator>
  <dc:description/>
  <dc:language>en-US</dc:language>
  <cp:lastModifiedBy>Mike Berezin</cp:lastModifiedBy>
  <dcterms:modified xsi:type="dcterms:W3CDTF">2001-10-26T12:04:39Z</dcterms:modified>
  <cp:revision>17</cp:revision>
  <dc:subject/>
  <dc:title>CRM решение: эффект, сроки, стоимость</dc:title>
</cp:coreProperties>
</file>